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544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91880" y="742680"/>
            <a:ext cx="2784600" cy="371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13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752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5440" y="940752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7B25-3AE9-45F2-868F-D5759A240FBB}" type="slidenum">
              <a:rPr b="1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992240" y="743040"/>
            <a:ext cx="2784600" cy="371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13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ço Reservado para Número de Slide 3"/>
          <p:cNvSpPr/>
          <p:nvPr/>
        </p:nvSpPr>
        <p:spPr>
          <a:xfrm>
            <a:off x="3835440" y="940752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897D-78BB-4539-8CFD-C051574EE71A}" type="slidenum">
              <a:rPr b="1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992240" y="743040"/>
            <a:ext cx="2784600" cy="37162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13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3835440" y="940752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C7C4-49E9-4AD8-95F1-ED66E70BDFFB}" type="slidenum">
              <a:rPr b="1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992240" y="743040"/>
            <a:ext cx="2784600" cy="37162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13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ço Reservado para Número de Slide 3"/>
          <p:cNvSpPr/>
          <p:nvPr/>
        </p:nvSpPr>
        <p:spPr>
          <a:xfrm>
            <a:off x="3835440" y="940752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176F-78B6-41BC-B305-7426369D2C12}" type="slidenum">
              <a:rPr b="1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B8F-28A2-4965-9D7F-3B0A45CB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F8E-DFC4-4CC4-8753-6812BB50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CB4-8EED-492F-A77E-C1138E38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ECB-FC98-4047-A86A-08B6AF83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D31-72F0-4596-B59B-F155466A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968-5453-4759-850D-5CB359DA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97A-3A4C-45BE-BEA3-B53DE675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E1D-2ECC-41B8-8075-3903DD74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143-ACD7-4AC2-8073-740F9422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F39-A31A-406C-AAD1-E747489F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91F-244A-4E7E-84B2-5FE88A5C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A92-DC75-4242-91A8-62D2C02A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5B3A-AF40-4616-A08E-FCD9D96965CF}" type="slidenum">
              <a:rPr b="1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ço Reservado para Texto 3"/>
          <p:cNvSpPr/>
          <p:nvPr/>
        </p:nvSpPr>
        <p:spPr>
          <a:xfrm>
            <a:off x="2349360" y="6566040"/>
            <a:ext cx="2159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Verdana"/>
                <a:ea typeface="Verdana"/>
              </a:rPr>
              <a:t>TAG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Fundacao_Renova_Marca_RGB_1.png"/>
          <p:cNvPicPr/>
          <p:nvPr/>
        </p:nvPicPr>
        <p:blipFill>
          <a:blip r:embed="rId1"/>
          <a:stretch/>
        </p:blipFill>
        <p:spPr>
          <a:xfrm>
            <a:off x="1197000" y="3376440"/>
            <a:ext cx="4464000" cy="13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15920" y="133200"/>
          <a:ext cx="3500280" cy="1282680"/>
        </p:xfrm>
        <a:graphic>
          <a:graphicData uri="http://schemas.openxmlformats.org/drawingml/2006/table">
            <a:tbl>
              <a:tblPr/>
              <a:tblGrid>
                <a:gridCol w="1725480"/>
                <a:gridCol w="1774800"/>
              </a:tblGrid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ódig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-SES-0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º da revisã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dor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iela Cristina De Castr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ovador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bens Bechara Juni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da aprovaçã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/10/20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icidade da revisã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u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çã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úblic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2" descr=""/>
          <p:cNvPicPr/>
          <p:nvPr/>
        </p:nvPicPr>
        <p:blipFill>
          <a:blip r:embed="rId1"/>
          <a:srcRect l="0" t="0" r="1913" b="0"/>
          <a:stretch/>
        </p:blipFill>
        <p:spPr>
          <a:xfrm>
            <a:off x="204840" y="179280"/>
            <a:ext cx="3008160" cy="495360"/>
          </a:xfrm>
          <a:prstGeom prst="rect">
            <a:avLst/>
          </a:prstGeom>
          <a:ln w="0">
            <a:noFill/>
          </a:ln>
        </p:spPr>
      </p:pic>
      <p:pic>
        <p:nvPicPr>
          <p:cNvPr id="52" name="Imagem 1" descr=""/>
          <p:cNvPicPr/>
          <p:nvPr/>
        </p:nvPicPr>
        <p:blipFill>
          <a:blip r:embed="rId2">
            <a:alphaModFix amt="14000"/>
          </a:blip>
          <a:stretch/>
        </p:blipFill>
        <p:spPr>
          <a:xfrm>
            <a:off x="2479680" y="488880"/>
            <a:ext cx="733320" cy="770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189000" y="179280"/>
            <a:ext cx="302400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89000" y="4572000"/>
            <a:ext cx="302400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357720" y="179280"/>
            <a:ext cx="302400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365640" y="684360"/>
            <a:ext cx="299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Autorização de Acesso 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Nº: 76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189000" y="1216080"/>
            <a:ext cx="32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Hidrog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3357720" y="4572000"/>
            <a:ext cx="302400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0"/>
          <p:cNvSpPr/>
          <p:nvPr/>
        </p:nvSpPr>
        <p:spPr>
          <a:xfrm rot="10800000">
            <a:off x="3403080" y="4573440"/>
            <a:ext cx="29530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Liberado por: Equipe de Gestão de S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ESTA CREDENCIAL SOMENTE PODERÁ SER UTILIZADA NAS ATIVIDADES DA FUNDAÇÃO RENOVA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CONDUTOR DO VEÍCULO DEVE PORTAR E APRESENTAR OS DOCUMENTOS DE USO OBRIGATÓRIO (DUT E CNH) SEMPRE QUE SOLICITADO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O CONDUTOR É INTEIRAMENTE RESPONSÁVEL POR ESTE DOCUMENTO, DEVENDO, CASO DE EXTRAVIO, COMUNICAR FORMALMENTE ATRAVÉS DE E-MAIL PARA A EQUIPE DE GESTÃO DE SST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0"/>
          <p:cNvSpPr/>
          <p:nvPr/>
        </p:nvSpPr>
        <p:spPr>
          <a:xfrm rot="10800000">
            <a:off x="3403080" y="7164360"/>
            <a:ext cx="29530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ERVAÇÃO: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96920" y="1825560"/>
            <a:ext cx="3024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VEÍCULO LE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HGT 0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Pla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DO 048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187200" y="3606840"/>
            <a:ext cx="3011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Validade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 Black"/>
              </a:rPr>
              <a:t>20/06/201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195120" y="712800"/>
            <a:ext cx="23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Autorização de Acesso 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Nº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0"/>
          <p:cNvSpPr/>
          <p:nvPr/>
        </p:nvSpPr>
        <p:spPr>
          <a:xfrm rot="10800000">
            <a:off x="204840" y="4643280"/>
            <a:ext cx="295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Liberado por:  Equipe de Gestão de S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ata: 02/03/20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ESTA CREDENCIAL SOMENTE PODERÁ SER UTILIZADA NAS ATIVIDADES DA FUNDAÇÃO RENOVA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CONDUTOR DO VEÍCULO DEVE PORTAR E APRESENTAR OS DOCUMENTOS DE USO OBRIGATÓRIO (DUT E CNH) SEMPRE QUE SOLICITADO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O CONDUTOR É INTEIRAMENTE RESPONSÁVEL POR ESTE DOCUMENTO, DEVENDO, CASO DE EXTRAVIO, COMUNICAR FORMALMENTE ATRAVÉS DE E-MAIL PARA A EQUIPE DE GESTÃO DE SST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0"/>
          <p:cNvSpPr/>
          <p:nvPr/>
        </p:nvSpPr>
        <p:spPr>
          <a:xfrm rot="10800000">
            <a:off x="225360" y="7093080"/>
            <a:ext cx="295272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ERVAÇÃO: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384720" y="3606840"/>
            <a:ext cx="3011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Validade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 Black"/>
              </a:rPr>
              <a:t>04/02/201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373560" y="900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rente: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Tributár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373560" y="1187280"/>
            <a:ext cx="32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EBJ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3375000" y="1825560"/>
            <a:ext cx="302436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VEÍCULO LE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BJ 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Pla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XX 717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2" descr=""/>
          <p:cNvPicPr/>
          <p:nvPr/>
        </p:nvPicPr>
        <p:blipFill>
          <a:blip r:embed="rId3"/>
          <a:srcRect l="0" t="0" r="1913" b="0"/>
          <a:stretch/>
        </p:blipFill>
        <p:spPr>
          <a:xfrm>
            <a:off x="3365640" y="195120"/>
            <a:ext cx="3008160" cy="495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185760" y="960480"/>
            <a:ext cx="30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rente: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Barrag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4" descr=""/>
          <p:cNvPicPr/>
          <p:nvPr/>
        </p:nvPicPr>
        <p:blipFill>
          <a:blip r:embed="rId4"/>
          <a:stretch/>
        </p:blipFill>
        <p:spPr>
          <a:xfrm>
            <a:off x="5630760" y="557280"/>
            <a:ext cx="7318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2" descr=""/>
          <p:cNvPicPr/>
          <p:nvPr/>
        </p:nvPicPr>
        <p:blipFill>
          <a:blip r:embed="rId1"/>
          <a:srcRect l="0" t="0" r="1913" b="0"/>
          <a:stretch/>
        </p:blipFill>
        <p:spPr>
          <a:xfrm>
            <a:off x="204840" y="179280"/>
            <a:ext cx="3008160" cy="495360"/>
          </a:xfrm>
          <a:prstGeom prst="rect">
            <a:avLst/>
          </a:prstGeom>
          <a:ln w="0">
            <a:noFill/>
          </a:ln>
        </p:spPr>
      </p:pic>
      <p:pic>
        <p:nvPicPr>
          <p:cNvPr id="74" name="Imagem 1" descr=""/>
          <p:cNvPicPr/>
          <p:nvPr/>
        </p:nvPicPr>
        <p:blipFill>
          <a:blip r:embed="rId2">
            <a:alphaModFix amt="14000"/>
          </a:blip>
          <a:stretch/>
        </p:blipFill>
        <p:spPr>
          <a:xfrm>
            <a:off x="2479680" y="488880"/>
            <a:ext cx="733320" cy="770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189000" y="179280"/>
            <a:ext cx="302400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89000" y="4572000"/>
            <a:ext cx="302400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357720" y="179280"/>
            <a:ext cx="302400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365640" y="684360"/>
            <a:ext cx="299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Autorização de Acesso 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Nº: 944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89000" y="1216080"/>
            <a:ext cx="32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EBJ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3357720" y="4572000"/>
            <a:ext cx="302400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 rot="10800000">
            <a:off x="3403080" y="4573440"/>
            <a:ext cx="29530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Liberado por: Equipe de Gestão de S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ESTA CREDENCIAL SOMENTE PODERÁ SER UTILIZADA NAS ATIVIDADES DA FUNDAÇÃO RENOVA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CONDUTOR DO VEÍCULO DEVE PORTAR E APRESENTAR OS DOCUMENTOS DE USO OBRIGATÓRIO (DUT E CNH) SEMPRE QUE SOLICITADO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O CONDUTOR É INTEIRAMENTE RESPONSÁVEL POR ESTE DOCUMENTO, DEVENDO, CASO DE EXTRAVIO, COMUNICAR FORMALMENTE ATRAVÉS DE E-MAIL PARA A EQUIPE DE GESTÃO DE SST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0"/>
          <p:cNvSpPr/>
          <p:nvPr/>
        </p:nvSpPr>
        <p:spPr>
          <a:xfrm rot="10800000">
            <a:off x="3403080" y="7164360"/>
            <a:ext cx="29530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ERVAÇÃO: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196920" y="1825560"/>
            <a:ext cx="30240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VEÍCULO LE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EBJ-009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Pla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YK-3350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187200" y="3606840"/>
            <a:ext cx="3011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Validade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 Black"/>
              </a:rPr>
              <a:t>16/03/201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95120" y="712800"/>
            <a:ext cx="23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Autorização de Acesso 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Nº: 46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0"/>
          <p:cNvSpPr/>
          <p:nvPr/>
        </p:nvSpPr>
        <p:spPr>
          <a:xfrm rot="10800000">
            <a:off x="204840" y="4643280"/>
            <a:ext cx="295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Liberado por:  Equipe de Gestão de S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ESTA CREDENCIAL SOMENTE PODERÁ SER UTILIZADA NAS ATIVIDADES DA FUNDAÇÃO RENOVA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CONDUTOR DO VEÍCULO DEVE PORTAR E APRESENTAR OS DOCUMENTOS DE USO OBRIGATÓRIO (DUT E CNH) SEMPRE QUE SOLICITADO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O CONDUTOR É INTEIRAMENTE RESPONSÁVEL POR ESTE DOCUMENTO, DEVENDO, CASO DE EXTRAVIO, COMUNICAR FORMALMENTE ATRAVÉS DE E-MAIL PARA A EQUIPE DE GESTÃO DE SST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0"/>
          <p:cNvSpPr/>
          <p:nvPr/>
        </p:nvSpPr>
        <p:spPr>
          <a:xfrm rot="10800000">
            <a:off x="225360" y="7093080"/>
            <a:ext cx="295272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ERVAÇÃO: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3384720" y="3606840"/>
            <a:ext cx="3011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Validade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 Black"/>
              </a:rPr>
              <a:t>16/03/201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3373560" y="900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rente: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Tributár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3373560" y="1187280"/>
            <a:ext cx="32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EBJ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3375000" y="1825560"/>
            <a:ext cx="30243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VEÍCULO LE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EBJ-011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Pla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PC-6141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2" descr=""/>
          <p:cNvPicPr/>
          <p:nvPr/>
        </p:nvPicPr>
        <p:blipFill>
          <a:blip r:embed="rId3"/>
          <a:srcRect l="0" t="0" r="1913" b="0"/>
          <a:stretch/>
        </p:blipFill>
        <p:spPr>
          <a:xfrm>
            <a:off x="3365640" y="195120"/>
            <a:ext cx="3008160" cy="495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8"/>
          <p:cNvSpPr/>
          <p:nvPr/>
        </p:nvSpPr>
        <p:spPr>
          <a:xfrm>
            <a:off x="185760" y="960480"/>
            <a:ext cx="30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rente: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Tributár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4"/>
          <a:stretch/>
        </p:blipFill>
        <p:spPr>
          <a:xfrm>
            <a:off x="5630760" y="557280"/>
            <a:ext cx="7318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30:49Z</dcterms:created>
  <dc:creator>pedro</dc:creator>
  <dc:description/>
  <dc:language>en-US</dc:language>
  <cp:lastModifiedBy>Wellington Jose Carvalho Da Conceicao</cp:lastModifiedBy>
  <cp:lastPrinted>2017-03-02T13:28:05Z</cp:lastPrinted>
  <dcterms:modified xsi:type="dcterms:W3CDTF">2020-10-16T12:25:24Z</dcterms:modified>
  <cp:revision>1218</cp:revision>
  <dc:subject/>
  <dc:title>Slide 1</dc:title>
</cp:coreProperties>
</file>